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BF40-4CC3-44BE-9C72-16F59A19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87AD-6599-4C0C-B667-0DC9B4F8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57B9-66BB-4946-B8E5-22810B5C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FF2F-1657-4A9C-AF84-C77BD5AE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4774-4518-4E6D-97A5-1AAF47D2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8510-5284-4E7D-868B-CBB0CAC4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449-409E-4B3F-9FA6-EE4519D2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12AB-78C2-4091-9A29-EF1E3765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1353-1F3C-47D0-84E9-51693BDE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EB96-949E-463A-9B54-50AC4424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425E-D78F-492D-895F-A762103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3105-3F2D-4351-828A-2EC1B783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0CFD-FE4B-469F-AC9F-F1E387CD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CEC4-7680-4D32-ABF4-A257517F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57F2-43E7-451D-8B6C-760A0773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4C8C-71BD-4E4A-BE5C-E9AC39AB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AB4A-BB71-4802-B353-A3E07E05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BC9B-BEC8-4CA5-B773-67CE2D21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EFA1-8D2F-4A33-BCC3-E7B42230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477D-CEBD-47A4-B3A8-D32E12A1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9B83-2E1C-4D19-BAA3-72836703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1320-8912-4B46-825B-853F5B8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A6C5-E4F8-4FFF-BCCA-D5FAEAB7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6195-1AF1-445B-B20A-E598686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EDD3-03C7-40A4-AA19-E0B48208E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F569-5099-47C4-9CFE-B6289A546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ynamic Voltage Scaling Using Both Headers and Footer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yle Craig and Roy Matth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E 6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it Body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ity Study of DVS with Headers and Fo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for using both headers and footers for leakage control (similar to MTCM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DVS system trades area for power savings and designing for headers and footers created additional complex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uch a system would allow for more knobs, to give designers more options when weighing power, delay, and area consid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research has addressed the power savings method known as Dynamic Voltage Scaling (DVS) to a system and attempt to apply the use of both headers and footers 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design is a crucial area of VLSI research and quadratic power savings can be achieved by voltage reduction, using the following formul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y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aC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S allows us to take advantage of this power sav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performed simulations using a DVS system of headers and footers on a 32-bit Kogge-Stone Adder using the 65nm TT P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tage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09680" y="1371600"/>
          <a:ext cx="5105520" cy="424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510552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581280" y="3809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809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between power and delay is shown above.  Tradeoffs must be considered when implementing a DV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 and Footer Sizing for De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648320" cy="278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735360"/>
            <a:ext cx="4648320" cy="3122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6668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029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952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1206360"/>
            <a:ext cx="396216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power gates to a system will cause an increase in de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nd footers must be sized appropriately to achieve an established metr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see us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a 50% decrease in header width, a 1.1% delay increase and 40% power re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, us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S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50% decrease in footer width yields a 1.5% increase in delay and 13% reduction in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 and Footer Sizing for De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914400"/>
            <a:ext cx="4800600" cy="28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43400" y="3757680"/>
            <a:ext cx="4800600" cy="31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6272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486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410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438280"/>
            <a:ext cx="396216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ng header sizing fo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ws that larger headers are required to achieve a similar delay metr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fore, if we us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educe width by 50%, the delay increases by 2.1% and the power decreases by 4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ail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038480"/>
            <a:ext cx="82296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rmalized delay can be seen here against total power for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time and width combination meeting our delay constraint of 10% is highligh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case without headers showed a power of 2.71mW, so every case here saves som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otal power is calculated here as the sum of the rail recovery power and the power for the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295280"/>
          <a:ext cx="8229600" cy="2579760"/>
        </p:xfrm>
        <a:graphic>
          <a:graphicData uri="http://schemas.openxmlformats.org/drawingml/2006/table">
            <a:tbl>
              <a:tblPr/>
              <a:tblGrid>
                <a:gridCol w="1463760"/>
                <a:gridCol w="950760"/>
                <a:gridCol w="951120"/>
                <a:gridCol w="1001520"/>
                <a:gridCol w="1295280"/>
                <a:gridCol w="843120"/>
                <a:gridCol w="838080"/>
                <a:gridCol w="88596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Total Power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ail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13372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rail recovery can be seen here as compared to header rail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s require a much smaller area to achieve the same delay penalty, which can be leveraged when designing DVS circuits, though power savings is less than for the header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3657600"/>
          <a:ext cx="8458200" cy="2187720"/>
        </p:xfrm>
        <a:graphic>
          <a:graphicData uri="http://schemas.openxmlformats.org/drawingml/2006/table">
            <a:tbl>
              <a:tblPr/>
              <a:tblGrid>
                <a:gridCol w="1506600"/>
                <a:gridCol w="976320"/>
                <a:gridCol w="978120"/>
                <a:gridCol w="1029960"/>
                <a:gridCol w="1327320"/>
                <a:gridCol w="865080"/>
                <a:gridCol w="863640"/>
                <a:gridCol w="911160"/>
              </a:tblGrid>
              <a:tr h="3128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Energy Over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91120" y="3429000"/>
          <a:ext cx="4647240" cy="3001320"/>
        </p:xfrm>
        <a:graphic>
          <a:graphicData uri="http://schemas.openxmlformats.org/drawingml/2006/table">
            <a:tbl>
              <a:tblPr/>
              <a:tblGrid>
                <a:gridCol w="1274400"/>
                <a:gridCol w="1699560"/>
                <a:gridCol w="1673280"/>
              </a:tblGrid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ay (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04920" y="1447920"/>
            <a:ext cx="380988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energy overhead is very large in this case of an idle Kogge-Stone ad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ust be taken into account when switching from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ing as a Kn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52680" y="1332000"/>
          <a:ext cx="5791320" cy="27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332000"/>
                    <a:ext cx="57913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352680" y="4084560"/>
          <a:ext cx="5791320" cy="2773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084560"/>
                    <a:ext cx="57913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648320" y="2971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209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971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209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5486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4724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2286000"/>
            <a:ext cx="30481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ng the power consumption of a system only using headers versus only using footers shows some interesting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different slopes can be leveraged as separate knobs to achieve greater control over power and wi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4:30Z</dcterms:created>
  <dc:creator>Roy IV</dc:creator>
  <dc:description/>
  <dc:language>en-US</dc:language>
  <cp:lastModifiedBy>Roy Matthews</cp:lastModifiedBy>
  <dcterms:modified xsi:type="dcterms:W3CDTF">2008-12-02T17:53:4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